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2581-030C-43C4-B867-DEE832CB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3B5B-D814-4FB7-A850-51C38899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00A7-35DA-4047-B948-FDE059433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BAD-A5F1-44C3-92D2-08300D358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D740-1DB7-4589-B492-598019802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5FEC-CD22-4B2F-832F-33F2BD3C9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EAD0A-B802-4AAA-94DD-42A80E44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CE73-16BF-4470-8E3E-4E8C8CC4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03D-BD31-4404-A064-4E93968EC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0CA9-118C-40B7-B826-F1C6E227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EC76-31CE-4EC5-B650-30CC6AB8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F35F-95C4-4F9D-917D-94F864EC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C0857-5B8E-4D9D-94F5-F1C0B1F1E3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2:44Z</dcterms:created>
  <dc:creator>INVES-S6600A</dc:creator>
  <dc:description/>
  <dc:language>en-US</dc:language>
  <cp:lastModifiedBy>INVES-S6600A</cp:lastModifiedBy>
  <dcterms:modified xsi:type="dcterms:W3CDTF">2010-11-23T14:03:04Z</dcterms:modified>
  <cp:revision>1</cp:revision>
  <dc:subject/>
  <dc:title>Diapositiva 1</dc:title>
</cp:coreProperties>
</file>